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45D-57FD-4A62-9B11-976ABD2B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F33-9F3C-4A82-A6D3-4C561968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EB2-2716-4130-B466-DABBC587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D9C-8942-4D4D-8A0A-930D5618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512-1723-4BC6-80CD-BFAF4A82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ADE-4E3D-4F02-BC85-7EFF7AB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AB5-AC39-4EA2-95DE-0E55FD6F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4D1-F46B-4CA0-BF19-37E1EAFB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19C-B6BE-4C76-99F2-706A0F6C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310-03B5-499F-AB24-06A139B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B44-5ADF-4A48-AF32-BB121F7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9F3-A959-4B53-8C16-753DC74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9DD2-C708-4CD4-B536-494DF714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3" descr="C:\clipart\classroom\bar-school.gif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C:\clipart\classroom\crayons1x.gif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clipart\classroom\crayons1x.gif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clipart\classroom\booksstackedx.gif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clipart\classroom\booksstackedx.gif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clipart\classroom\booksstackedx.gif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clipart\classroom\booksstackedx.gif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clipart\classroom\teach.gif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C:\clipart\classroom\booksstackedx.gif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clipart\classroom\booksstackedx.gif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clipart\classroom\booksstackedx.gif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clipart\classroom\booksstackedx.gif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clipart\classroom\booksstackedx.gif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2" descr="C:\clipart\classroom\appledesk.gif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3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4" descr="C:\clipart\Emotions\goofed.gif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8" descr="C:\clipart\Emotions\goofed.gif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2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3" descr="C:\clipart\Emotions\surprise1x.gif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4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clipart\people\boy-girl.gif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clipart\creatures\cat4.gif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clipart\creatures\cat5.jpg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clipart\creatures\cat7.jpg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4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4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2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3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Picture 3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9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Picture 4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45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Picture 4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51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Picture 5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3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Picture 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9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Picture 1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15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Picture 1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21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Picture 2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27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C:\clipart\icons\bookques.gif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2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8" descr="C:\clipart\icons\bookques.gif"/>
          <p:cNvPicPr/>
          <p:nvPr/>
        </p:nvPicPr>
        <p:blipFill>
          <a:blip r:embed="rId1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C:\clipart\icons\bookques.gif"/>
          <p:cNvPicPr/>
          <p:nvPr/>
        </p:nvPicPr>
        <p:blipFill>
          <a:blip r:embed="rId2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C:\clipart\icons\bookques.gif"/>
          <p:cNvPicPr/>
          <p:nvPr/>
        </p:nvPicPr>
        <p:blipFill>
          <a:blip r:embed="rId3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C:\clipart\icons\bookques.gif"/>
          <p:cNvPicPr/>
          <p:nvPr/>
        </p:nvPicPr>
        <p:blipFill>
          <a:blip r:embed="rId4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C:\clipart\icons\bookques.gif"/>
          <p:cNvPicPr/>
          <p:nvPr/>
        </p:nvPicPr>
        <p:blipFill>
          <a:blip r:embed="rId5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3" descr="C:\clipart\icons\bookques.gif"/>
          <p:cNvPicPr/>
          <p:nvPr/>
        </p:nvPicPr>
        <p:blipFill>
          <a:blip r:embed="rId6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8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Picture 9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0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1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2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4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5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6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7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19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Picture 20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1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2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4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6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7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8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29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3196800" y="6238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9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20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Picture 21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2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3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4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5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26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Picture 27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8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9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0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1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32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Picture 33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4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5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6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7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38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Picture 39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0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1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2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3" descr="C:\clipart\items\animmultball.gif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AutoShape 44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5574960" y="46483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6" descr="C:\clipart\items\animmultball.gif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C:\clipart\items\animmultball.gif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clipart\items\animmultball.gif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0" descr="C:\clipart\items\animmultball.gif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C:\clipart\items\animmultball.gif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C:\clipart\items\animmultball.gif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C:\clipart\items\animmultball.gif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C:\clipart\items\animmultball.gif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25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3060360" y="5257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" descr="C:\clipart\items\animmultball.gif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C:\clipart\items\animmultball.gif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C:\clipart\items\animmultball.gif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C:\clipart\items\animmultball.gif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C:\clipart\items\animmultball.gif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9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060360" y="51055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7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831760" y="42670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19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6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20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Picture 2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5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6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27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Picture 2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1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2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3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34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Picture 3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7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8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9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0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7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WordArt 2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5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6" descr="C:\clipart\Emotions\surprise1x.gif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teacher</cp:lastModifiedBy>
  <dcterms:modified xsi:type="dcterms:W3CDTF">2014-04-06T21:37:34Z</dcterms:modified>
  <cp:revision>5</cp:revision>
  <dc:subject/>
  <dc:title>PowerPoint Presentation</dc:title>
</cp:coreProperties>
</file>